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5F6-32D6-4754-8B1C-D0EDC8D3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52F-8F6F-42D2-8380-E32A07AB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7B1-6052-47E0-BEF0-EDF2FA3C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C62-DF70-4475-A499-53627337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1DD-1D41-4535-B772-7608E106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C2F-EB68-4E89-B3E4-546ECB7B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120-C61A-4B41-BFF9-D94A4045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4D7-0B1E-44DF-A1A9-93DF6C79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072-395C-4CFF-9C2C-B22ECBF8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E4E-8301-4F25-A377-BA7C350C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0CD-04F2-4D49-A581-B8160A6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8CB-0309-42F0-ADBC-3DB1CE8D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08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3A16-1B01-42FB-927E-5D4DED2DD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Unit 6- Chapter 29</a:t>
            </a:r>
            <a:br>
              <a:rPr sz="4400"/>
            </a:br>
            <a:r>
              <a:rPr b="0" lang="en-US" sz="3600" spc="-1" strike="noStrike">
                <a:solidFill>
                  <a:srgbClr val="bfbfbf"/>
                </a:solidFill>
                <a:latin typeface="Calibri"/>
              </a:rPr>
              <a:t>Government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Ryan Sokol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Erick Bamber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Supply- Side Econo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Tax Cu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Raise 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Create more working, more saving, and more inve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Increase Labor and Capi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Small magnitude of supply-side eff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Underestimates demand-side eff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Problems in ti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Increases income ine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Effectiveness in policies depend on which type of taxes are c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Supply-side tax c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have primary short run impact on 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Widen income inequa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Raise budget defic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Promotes faster long-term economic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Calibri"/>
              </a:rPr>
              <a:t>What should fiscal policy be used fo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Short Reactionary L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Spending/Savings directly effect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Tax cuts/ Increases directly effect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Adjusting economy to potential G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Solving imbalances in the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Income Ta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91440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U.S.- Variable Taxes, not fixed ta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Taxes increase as income incr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Income taxes rise to counter inflation, fall to battle rec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371600" y="335268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Consumption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762120" y="41911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Shows GDP, Taxes, DI, C, I, G, (X-IM), and Total Expendi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Enables viewers to find equilibriu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Effects of G and Ta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G effects G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In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More Jo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Highe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De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Less Jo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Lowe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Ta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Effect 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Less Taxes =&gt;  More DI =&gt; Higher C =&gt; Highe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Calibri"/>
              </a:rPr>
              <a:t>Why the Oversimplified Multiplier is Wro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Does not account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Variable Tax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62120" y="34290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Calibri"/>
              </a:rPr>
              <a:t>Government Transfer Pay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09480" y="434340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Inverse of Taxes (Government giving money to publ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Planning Expansive Fiscal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Too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Increase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Decrease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Increase Transfer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There is a recessionary g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There is high un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Calibri"/>
              </a:rPr>
              <a:t>Planning Contractionary Fiscal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Too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Decrease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Increase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Decrease Transfer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To fight an inflationary g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To fight inf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Raising Spending Vs. Cutting Ta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Fiscal Libera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Opin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There is something amiss when a country as wealthy as the United States has such an impoverished public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Vie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America need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Better schools &amp; Healthcare; Aid for Elderly; Environmental Improvements; Less poverty; better infra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A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Expansionary Gap: Increase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Recessionary Gap: Increase Ta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alibri"/>
              </a:rPr>
              <a:t>Raising Spending Vs. Cutting Tax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Fiscal Conserv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Opin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Gov’t sector is already too large; foolish to rely on gov’t to do things that private individuals can do better on their 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Vie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Growth of gov’t interferes with daily lives and circumscribes our free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A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Expansionary Gap: Decrease Ta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Contractionary Gap: Decrease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09:34Z</dcterms:created>
  <dc:creator>cbrown</dc:creator>
  <dc:description/>
  <dc:language>en-US</dc:language>
  <cp:lastModifiedBy>cbrown</cp:lastModifiedBy>
  <dcterms:modified xsi:type="dcterms:W3CDTF">2009-01-26T19:08:08Z</dcterms:modified>
  <cp:revision>6</cp:revision>
  <dc:subject/>
  <dc:title>Unit 6- Chapter 29 Government Policy</dc:title>
</cp:coreProperties>
</file>